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D27A-062C-4ED2-9890-08CE7DAEBAD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A4B8-254F-4494-B4A4-928F73030CA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E10-5DCA-4D87-8B94-9E5D7125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66A-A877-4969-8247-F2267769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A4B-7EE8-4E00-A4B1-BEA26EF7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633-30BB-443F-8116-BD8D3436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9715-B743-4A24-A3E5-820C4169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A25-7030-46A0-AEBA-4F3858F9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7DA-AA55-4954-B347-FDD709D1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19D-35EB-48A2-9033-9507963C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B62-2326-40CF-8B06-20E1BFDD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C8E-641A-4F46-8B03-20292768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7E2-4093-485A-879E-A200A3A2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379-3840-4608-AD48-F6DFA439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0694-06E2-409B-B50B-49F9B1104A9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Üniversiteyi Kırıkkale'de okumuş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990000"/>
                </a:solidFill>
                <a:latin typeface="Arial"/>
                <a:ea typeface="Courier New"/>
              </a:rPr>
              <a:t>Annemin çeyiz sandığını karıştırdım dü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Yemeğe kimleri çağıracağız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990000"/>
                </a:solidFill>
                <a:latin typeface="Arial"/>
                <a:ea typeface="Courier New"/>
              </a:rPr>
              <a:t>Aklımdan </a:t>
            </a:r>
            <a:br>
              <a:rPr sz="8000"/>
            </a:br>
            <a:r>
              <a:rPr b="1" lang="tr-TR" sz="8000" spc="-1" strike="noStrike">
                <a:solidFill>
                  <a:srgbClr val="990000"/>
                </a:solidFill>
                <a:latin typeface="Arial"/>
                <a:ea typeface="Courier New"/>
              </a:rPr>
              <a:t>onu </a:t>
            </a:r>
            <a:br>
              <a:rPr sz="8000"/>
            </a:br>
            <a:r>
              <a:rPr b="1" lang="tr-TR" sz="8000" spc="-1" strike="noStrike">
                <a:solidFill>
                  <a:srgbClr val="990000"/>
                </a:solidFill>
                <a:latin typeface="Arial"/>
                <a:ea typeface="Courier New"/>
              </a:rPr>
              <a:t>geçiriyoru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Mutlu mutlu yaşıyoru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990000"/>
                </a:solidFill>
                <a:latin typeface="Arial"/>
                <a:ea typeface="Courier New"/>
              </a:rPr>
              <a:t>Onlar, yaşamı önlerine </a:t>
            </a:r>
            <a:br>
              <a:rPr sz="8000"/>
            </a:br>
            <a:r>
              <a:rPr b="1" lang="tr-TR" sz="8000" spc="-1" strike="noStrike">
                <a:solidFill>
                  <a:srgbClr val="990000"/>
                </a:solidFill>
                <a:latin typeface="Arial"/>
                <a:ea typeface="Courier New"/>
              </a:rPr>
              <a:t>katarla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Yerden yere vurdun ben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990000"/>
                </a:solidFill>
                <a:latin typeface="Arial"/>
              </a:rPr>
              <a:t>Ansızın haykıracağım sana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Annesini bulamayınca üzüldü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Arial"/>
              </a:rPr>
              <a:t>Annem bugün bizi bekler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Açıyorlar esmer avuçlarını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Arial"/>
              </a:rPr>
              <a:t>Al bir ata binmiş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5 TL'lik kumandayı bile naylonla koruyoruz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Numaramı falan değiştirmed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Pamukkale’ye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bir gezi düzenleyeceğiz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Senin için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dağları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deler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Vurulmuşum toprağına taşın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Yaz tatilinde nereye gideceksi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Yavru ceylan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gibi kaça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Yazmışsın iki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satır mektup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9:16:16Z</dcterms:modified>
  <cp:revision>93</cp:revision>
  <dc:subject/>
  <dc:title>KONU 1</dc:title>
</cp:coreProperties>
</file>